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600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6480" y="740880"/>
            <a:ext cx="4929120" cy="369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8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600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D455D-1D66-453D-87F9-A59CC1CEEA4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A5CA1-EF6A-4C21-8F96-08DA88B6D67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8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rimárně na webu, tištěně jen něc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709E6-2D76-4826-AD0B-8E56DDE6956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7F2AC-F97D-4034-AA06-506AE0512EB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3FD1F-A2BF-4360-9731-E40CD53CBE2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0E038-F170-4FD4-89A8-27DC4816E0F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AD99-F792-464E-8175-6D77375A9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FD8F-4F6F-4437-B285-67674B95D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92F7-4772-486F-95DA-9A4E96294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529D-3224-4F08-8F5F-5D57C9E7F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6B2F-6BD0-4DE1-A46F-35B8CC83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F933-6AB2-4964-BB21-DC954F3F4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C87F-5C12-402F-B597-68BC56C47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1330-A2E5-4491-8525-EFE0575EC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7373-C87B-4BF3-9A51-9C7C65611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9055-8D50-4713-B3F7-A907B459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9592-A5FC-4CB5-9947-ECD9B6AA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963F-2AC9-469F-88A3-1617F23C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714A1-0C48-4220-908E-619331904A7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Seminář pro žadatele</a:t>
            </a:r>
            <a:br>
              <a:rPr sz="3600"/>
            </a:b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 OP LZZ – Rovné příležitosti </a:t>
            </a:r>
            <a:br>
              <a:rPr sz="3600"/>
            </a:b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žen a muž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aha/Brno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klady aktivit pro jednotlivé okruhy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00000"/>
                </a:solidFill>
                <a:latin typeface="Arial"/>
              </a:rPr>
              <a:t>Možno čerpat mzdové příspěvky na prac. místa pro osoby vracející se na trh práce po RD nebo po péči o záv. člena rod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Flexibilní forma organizace prá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ráce z domo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krácený pracovní úvaz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stlačený pracovní tý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sdílené pracovní mí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ráce na dohodu o pracovní činnosti nebo o provedení práce, pokud nebyla na pracovišti zaved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Pozor !!!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V této výzvě za flexibilní režim není považována pružná pracovní do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klady aktivit pro jednotlivé okruhy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B) Podpora a rozvoj samostatné výdělečné čin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 algn="just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yužití inovativních metod, zapojení doprovodných opatření a nástrojů slaďování pracovního a rodinného života (služby péče o děti) pro ženy začínající podnikat a vykonávající samostatně výdělečnou činn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8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 algn="just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Jako doplňková aktivita mohou být součástí projektu rekvalifikace (zejména pro ženy jenž se v rámci projektu rozhodnout nezačít podnikat). Rekvalifikace musí zohledňovat možnosti uplatnění osob na lokálním trhu práce a neměly by podporovat genderové stereotyp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8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 algn="just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Tvorba pracovních míst pro osoby znevýhodněné na trhu práce (cílové skupiny osob ) za účelem umístění na trhu prá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klady aktivit pro jednotlivé okruhy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C) Místní partnerství a tematické sí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Místní partnerství - řešení specifických problémů dané lokality, služby péče o děti jako součást komplexního řeš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rosazování změn a systémových opat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Zapojování občanů a firem do plánování a realizace lokálních projek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Tematické sítě - výměna zkušeností a přenos dobré praxe mezi zahraničním partnerem a subjektem z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edběžný harmon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30. dubna 2012</a:t>
            </a:r>
            <a:r>
              <a:rPr b="0" lang="cs-CZ" sz="3200" spc="-1" strike="noStrike">
                <a:solidFill>
                  <a:srgbClr val="143f7e"/>
                </a:solidFill>
                <a:latin typeface="Arial"/>
              </a:rPr>
              <a:t> – uzávěrka pro příjem žád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Do 31. srpna 2012</a:t>
            </a:r>
            <a:r>
              <a:rPr b="0" lang="cs-CZ" sz="3200" spc="-1" strike="noStrike">
                <a:solidFill>
                  <a:srgbClr val="143f7e"/>
                </a:solidFill>
                <a:latin typeface="Arial"/>
              </a:rPr>
              <a:t> – vyhlášení výsled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Do 15 dnů</a:t>
            </a:r>
            <a:r>
              <a:rPr b="0" lang="cs-CZ" sz="3200" spc="-1" strike="noStrike">
                <a:solidFill>
                  <a:srgbClr val="143f7e"/>
                </a:solidFill>
                <a:latin typeface="Arial"/>
              </a:rPr>
              <a:t> od poskytnutí podkladů od žadatele – uzavření právního aktu </a:t>
            </a:r>
            <a:br>
              <a:rPr sz="3200"/>
            </a:br>
            <a:r>
              <a:rPr b="0" lang="cs-CZ" sz="3200" spc="-1" strike="noStrike">
                <a:solidFill>
                  <a:srgbClr val="143f7e"/>
                </a:solidFill>
                <a:latin typeface="Arial"/>
              </a:rPr>
              <a:t>o poskytnutí podpo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Oprávnění žadate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územní samosprávné celk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nestátní neziskové organiz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školy a školská zařízen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vysoké ško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sociální partneř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hospodářská kom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podnikatelské subjek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výzkumné a vzdělávací institu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spcBef>
                <a:spcPts val="6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Pozor !!!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V této výzvě nejsou oprávněnými žadateli ani partnery organizační složky státu a jimi zřizované organiz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Cílové skupin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Cílové skupiny jednotlivců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Osoby pečující o závislého člena rod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aměstnanci/kyně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eny ohrožené na trhu prá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  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-  dlouhodobě nezaměstnané že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  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-  ženy ohrožené nezaměstnan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   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- ženy vracející se po rodičovské dovolené nebo péči o závislého člena rod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Muži v obdobné situaci jako ženy s malými dět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eny se základním vzděláním nebo s nízkou úrovní kvalifik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eny v předdůchodovém vě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eny začínající podnikání a vykonávající samostatně výdělečnou čin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Cílové skupin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Cílové skupiny organizac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Instituce služeb zaměstnanosti a jejich pracovníci/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státní neziskové organ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Odborové organizace a sociální partneř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Orgány státní správy a jimi zřizované organ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Úřad práce České republ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Územní samosprávné celky a úřady samosprávných celků, jejich orgány a jimi zřízené nebo založené organizace a jejich zaměstanci/ky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ýzkumné a vzdělávací institu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aměstnavatel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pecifické podmínky výz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Samostatná klíčová aktivita „</a:t>
            </a:r>
            <a:r>
              <a:rPr b="1" lang="cs-CZ" sz="2400" spc="-1" strike="noStrike" u="sng">
                <a:solidFill>
                  <a:srgbClr val="d1131c"/>
                </a:solidFill>
                <a:uFillTx/>
                <a:latin typeface="Arial"/>
              </a:rPr>
              <a:t>Šíření výstupů projektu a osvěta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“</a:t>
            </a: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,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informování širší veřejnosti a dotčených subjektů o výstupech projektu a problematice rovných příležitostí žen a mužů</a:t>
            </a:r>
            <a:r>
              <a:rPr b="0" lang="en-US" sz="2400" spc="-1" strike="noStrike">
                <a:solidFill>
                  <a:srgbClr val="143f7e"/>
                </a:solidFill>
                <a:latin typeface="Arial"/>
              </a:rPr>
              <a:t>;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aktivity nad rámec povinného publicitního min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Samostatná klíčová aktivita „</a:t>
            </a:r>
            <a:r>
              <a:rPr b="1" lang="cs-CZ" sz="2400" spc="-1" strike="noStrike" u="sng">
                <a:solidFill>
                  <a:srgbClr val="d1131c"/>
                </a:solidFill>
                <a:uFillTx/>
                <a:latin typeface="Arial"/>
              </a:rPr>
              <a:t>Monitoring a evaluace projektu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“</a:t>
            </a: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,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informace jak  budou  v projektu  nastaveny,  sledovány,  měřeny a hodnoceny reálné dopady projektu na rovnost žen a mužů (příloha č. 5 výzv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Pozice expert/ka na rovné příležitosti žen a mužů v realizačním týmu,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na </a:t>
            </a:r>
            <a:r>
              <a:rPr b="1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samostatné příloze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musí být prokázáno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vzdělání nebo praxe experta/ky nebo publikační činnost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 dané oblasti/obo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Školení a volnočasové aktivity -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ředložené projektové žádosti </a:t>
            </a:r>
            <a:r>
              <a:rPr b="1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nesmí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obsahovat pouze školení bez návaznosti na jiné aktivity a jakékoliv volnočasové ak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pro žadatele a příjemce: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www.esfcr.cz/vyzva-pro-predkladani-grantovych-projektu-v-ramci-oblasti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3"/>
          <p:cNvSpPr/>
          <p:nvPr/>
        </p:nvSpPr>
        <p:spPr>
          <a:xfrm>
            <a:off x="1676520" y="5562720"/>
            <a:ext cx="1981080" cy="304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547560" y="1600200"/>
            <a:ext cx="8048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pro žadatele a příjemc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www.esfcr.cz/vyzva-pro-predkladani-grantovych-projektu-v-ramci-oblasti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Desatero OP LZZ, platné od 15. 3. 2012: 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http://www.esfcr.cz/folder/4767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Výz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Dokumenty ke staže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Metodika hodnocení specifických kritéri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Metodika logického rám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Tabulka logického rám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Zhodnocení rovn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Zhodnocení rovnosti - poky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Obvyklé mzdy a pla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Obvyklé ce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Vzor potvrzení o zařazení do IP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ESF fórum poky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Potvrzení o převzetí žád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ýzva č. 88: základní informace (1)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Prioritní osa 3: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Sociální integrace a rovné příležit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Oblast podpory 3. 4: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Rovné příležitosti žen a mužů na trhu práce a slaďování pracovního rodinného života</a:t>
            </a: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Vyhlašovatel: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MPSV, Ř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Vyhlášení výzvy</a:t>
            </a:r>
            <a:r>
              <a:rPr b="1" lang="en-US" sz="2400" spc="-1" strike="noStrike">
                <a:solidFill>
                  <a:srgbClr val="d1131c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1. března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Uzávěrka pro příjem žádostí</a:t>
            </a:r>
            <a:r>
              <a:rPr b="1" lang="en-US" sz="2400" spc="-1" strike="noStrike">
                <a:solidFill>
                  <a:srgbClr val="d1131c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30. dubna 2012, 14: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Objem výzvy: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425 000 000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Kontakt na vyhlašovatele: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http://forum.esfcr.c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artnerství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Partner 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s finančním příspěvkem </a:t>
            </a: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–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tento typ partnera přijímá prostřednictvím příjemce část finanční podpory na realizaci věcných projektových aktiv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Partner 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bez finančního příspěvku </a:t>
            </a: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–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dílí se na realizaci věcných aktivit projektu (např. formou konzultací, odborné garance apod.) a není mu poskytován žádný finanční příspěvek za účast na realizaci projekt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rojekt může mít i 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zahraničního partnera</a:t>
            </a: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z členského státu EU!! Zahraniční partner je vždy partnerem bez finančního příspěvku. Jeho právní forma není nijak omezená (fyzická osoba/právnická osoba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artnerství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Důležité!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Český partner s finančním příspěvkem i bez finančního příspěvku musí patřit mezi oprávněné žadatele v této výzvě. Výjimku tvoří Úřad práce České republiky, který může být partnerem bez finančního příspěvku. Ostatní organizační složky státu a jimi zřizované organizace mohou být pouze spolupracujícími organizacemi, nikoli partne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 případě realizace projektu s partnery je žadatel povinen zajistit, aby vztahy mezi ním a jeho partnery odpovídaly podmínkám a principům partnerství uvedeným v Příručce pro žadatele z OP LZZ, dostupné ke stažení na webových stránkách </a:t>
            </a:r>
            <a:r>
              <a:rPr b="1" lang="cs-CZ" sz="2400" spc="-1" strike="noStrike" u="sng">
                <a:solidFill>
                  <a:srgbClr val="00b050"/>
                </a:solidFill>
                <a:uFillTx/>
                <a:latin typeface="Arial"/>
              </a:rPr>
              <a:t>www.esfcr.cz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artnerství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Role partnera, včetně jeho podílu na konkrétních aktivitách projektu, popř. části prostředků finanční podpory, musí být popsána žadatelem již v Žádosti </a:t>
            </a:r>
            <a:br>
              <a:rPr sz="2400"/>
            </a:b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o finanční podporu z OP LZZ, konkrétně v části Způsob zapojení partnerů do realizace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 případě, že příjemce dotace předpokládá poukázat část poskytnuté finanční podpory partnerům, musí být v rámci rozpočtu projektu jasně vymezeny náklady jednotlivých partnerů na realizaci projektu. To znamená, že položky rozpočtu, které </a:t>
            </a:r>
            <a:r>
              <a:rPr b="0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náleží partnerovi, musí být označeny názvem partnera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, aby bylo jasně dohledatelné partnerovo financování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lohy žádosti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Povinné přílohy žádos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5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Doklad o právní subjektivitě v odpovídající formě, odlišné podle právní formy žadatele – viz Příručka pro žadatele, kapitola Přílohy žádost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5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Zhodnocení rovnosti žen a mužů v projektových žádost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5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Životopis experta/ky na rovné příležit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tvrzení o zařazení do IPRM (pouze pokud je relevant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zult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43f7e"/>
                </a:solidFill>
                <a:latin typeface="Arial"/>
              </a:rPr>
              <a:t>Pro Vaše dotazy a podněty:</a:t>
            </a: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http://forum.esfcr.cz</a:t>
            </a:r>
            <a:r>
              <a:rPr b="0" lang="cs-CZ" sz="3200" spc="-1" strike="noStrike">
                <a:solidFill>
                  <a:srgbClr val="4597a0"/>
                </a:solidFill>
                <a:latin typeface="Arial"/>
                <a:ea typeface="Times New Roman"/>
              </a:rPr>
              <a:t>,</a:t>
            </a:r>
            <a:r>
              <a:rPr b="0" lang="cs-CZ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0" lang="cs-CZ" sz="3200" spc="-1" strike="noStrike" u="sng">
                <a:solidFill>
                  <a:srgbClr val="4597a0"/>
                </a:solidFill>
                <a:uFillTx/>
                <a:latin typeface="Arial"/>
              </a:rPr>
              <a:t>podpora34-51@ea-oplzz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43f7e"/>
                </a:solidFill>
                <a:latin typeface="Arial"/>
              </a:rPr>
              <a:t>Osobní konzultace: Praha, Brno, Ost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Termíny konzultací jsou zveřejněny na stránkách www.esfcr.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143f7e"/>
                </a:solidFill>
                <a:latin typeface="Arial"/>
              </a:rPr>
              <a:t>Předložení žádosti o finanční podpo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působ a forma předkládání žádostí a hodnocení žádostí</a:t>
            </a: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působ a forma předkládání žádostí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 o finanční podporu z OP LZZ je žadatelem vypracována on-line v aplikaci Benefit7 (elektronická žádost) na www.eu-zadost.cz nebo www.eu-zadost.e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0" lang="cs-CZ" sz="2000" spc="-1" strike="noStrike">
                <a:solidFill>
                  <a:srgbClr val="c00000"/>
                </a:solidFill>
                <a:latin typeface="Arial"/>
              </a:rPr>
              <a:t>POZOR!: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 musí být založena ve správné výzvě (č. 88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 o finanční podporu se předkládá v tištěné podobě v 1 vyhotovení (originál) a podepsaná na příslušném místě statutárním zástupcem + 1 výtisk (originál nebo ověřená kopie) povinných příl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aždá z příloh musí být označena pořadovým číslem podle jejího označení v seznamu příloh v aplikaci Benefit7 a podepsaná statutárním zástupcem žadate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čet listů uváděný do seznamu příloh musí odpovídat skutečně počtu listů, nikoli strán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eden žadatel může předložit maximálně 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3 žád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působ a forma předkládání žádostí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odepsaná žádost musí být sešita a přelepena páskou v levém horním rohu (na přední i zadní straně) nebo jiným obdobným způsobem </a:t>
            </a:r>
            <a:br>
              <a:rPr sz="2400"/>
            </a:b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a podepsána z obou stran (případně orazítkován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drobné informace pro vyplnění žádosti o finanční podporu z OP LZZ naleznete v Průvodci vyplněním projektové žádosti OP LZZ (D6), která je součástí desatera OP LZ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působ a forma předkládání žádostí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ožadovaná form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obálce musí být uvedeny následující informace – adresa vyhlašovatele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;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ázev operačního programu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;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číslo prioritní osy </a:t>
            </a:r>
            <a:br>
              <a:rPr sz="2000"/>
            </a:b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a oblasti podpory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;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název globálního grantu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;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číslo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ýzvy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;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název žádosti o finanční podporu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;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označení věcného zaměření projektu viz bod 3.1 výzvy (</a:t>
            </a: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A, B nebo C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dle převažujícího typu činností)</a:t>
            </a:r>
            <a:r>
              <a:rPr b="1" lang="en-US" sz="2000" spc="-1" strike="noStrike">
                <a:solidFill>
                  <a:srgbClr val="143f7e"/>
                </a:solidFill>
                <a:latin typeface="Arial"/>
              </a:rPr>
              <a:t>;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lný název a adresa žadatele, heslo „NEOTVÍRAT“ (levý horní ro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Stav žádosti lze po celou dobu procesu hodnocení sledovat v IS Benefit7 (záložka Konto žádos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vinnosti žadatele jsou blíže specifikovány v příloze Desatera OP LZZ č. D1 -Příručka pro žadat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ormální hodnocení a hodnocení přijatel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Provádí se podle checklistu, který obsahuje jednotlivá formální kritéria a kritéria přijatelnosti formou odpovědi ANO/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Checklist je součástí projektové žádosti v systému Benefit – </a:t>
            </a:r>
            <a:r>
              <a:rPr b="0" lang="cs-CZ" sz="2800" spc="-1" strike="noStrike">
                <a:solidFill>
                  <a:srgbClr val="c00000"/>
                </a:solidFill>
                <a:latin typeface="Arial"/>
              </a:rPr>
              <a:t>„Kontrola žádosti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c00000"/>
                </a:solidFill>
                <a:latin typeface="Arial"/>
              </a:rPr>
              <a:t>Možnost zkontrolovat si žádost dle stejných kritérií, podle kterých žádost kontroluje Ř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Formální hodnocení a hodnocení přijatelnosti probíhá do 30 dnů od uzávěrky příjmu žád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ýzva č. 88: základní informace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  <a:ea typeface="Times New Roman"/>
              </a:rPr>
              <a:t>Globální cíl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: Prosazování cílených opatření pro plnění principu rovných příležitostí žen a mužů na trhu práce a sladění pracovního a rodinného živ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131c"/>
                </a:solidFill>
                <a:latin typeface="Arial"/>
              </a:rPr>
              <a:t>Min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výše podpory</a:t>
            </a:r>
            <a:r>
              <a:rPr b="0" lang="en-US" sz="2800" spc="-1" strike="noStrike">
                <a:solidFill>
                  <a:srgbClr val="14407e"/>
                </a:solidFill>
                <a:latin typeface="Arial"/>
              </a:rPr>
              <a:t>/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projekt</a:t>
            </a:r>
            <a:r>
              <a:rPr b="0" lang="en-US" sz="2800" spc="-1" strike="noStrike">
                <a:solidFill>
                  <a:srgbClr val="14407e"/>
                </a:solidFill>
                <a:latin typeface="Arial"/>
              </a:rPr>
              <a:t>: 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  <a:ea typeface="Times New Roman"/>
              </a:rPr>
              <a:t>1,5 mil. K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č</a:t>
            </a:r>
            <a:r>
              <a:rPr b="1" lang="cs-CZ" sz="2800" spc="-1" strike="noStrike">
                <a:solidFill>
                  <a:srgbClr val="14407e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131c"/>
                </a:solidFill>
                <a:latin typeface="Arial"/>
              </a:rPr>
              <a:t>Max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výše podpory</a:t>
            </a:r>
            <a:r>
              <a:rPr b="0" lang="en-US" sz="2800" spc="-1" strike="noStrike">
                <a:solidFill>
                  <a:srgbClr val="14407e"/>
                </a:solidFill>
                <a:latin typeface="Arial"/>
              </a:rPr>
              <a:t>/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projekt</a:t>
            </a:r>
            <a:r>
              <a:rPr b="0" lang="en-US" sz="2800" spc="-1" strike="noStrike">
                <a:solidFill>
                  <a:srgbClr val="14407e"/>
                </a:solidFill>
                <a:latin typeface="Arial"/>
              </a:rPr>
              <a:t> : 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  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  <a:ea typeface="Times New Roman"/>
              </a:rPr>
              <a:t>8 mil. K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č</a:t>
            </a:r>
            <a:r>
              <a:rPr b="1" lang="cs-CZ" sz="2800" spc="-1" strike="noStrike">
                <a:solidFill>
                  <a:srgbClr val="14407e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Max délka trvání projektu</a:t>
            </a:r>
            <a:r>
              <a:rPr b="0" lang="en-GB" sz="2800" spc="-1" strike="noStrike">
                <a:solidFill>
                  <a:srgbClr val="d1131c"/>
                </a:solidFill>
                <a:latin typeface="Arial"/>
                <a:ea typeface="Times New Roman"/>
              </a:rPr>
              <a:t>: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  <a:ea typeface="Times New Roman"/>
              </a:rPr>
              <a:t>2</a:t>
            </a:r>
            <a:r>
              <a:rPr b="0" lang="en-GB" sz="2800" spc="-1" strike="noStrike">
                <a:solidFill>
                  <a:srgbClr val="14407e"/>
                </a:solidFill>
                <a:latin typeface="Arial"/>
                <a:ea typeface="Times New Roman"/>
              </a:rPr>
              <a:t> 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ro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POZOR!!!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Realizace projektů této výzvy musí být zahájena v rozmezí od </a:t>
            </a: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1.11.2012 až 1.12.2012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.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Jiný začátek realizace projektu není v rámci této výzvy možný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ormální krité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Hodnotí 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 byla dodána v tištěné podobě – 1 originál, unikátní kód tištěné verze musí souhlasit s kódem finálně uzavřené žádosti v Benefit7, na obálce jsou všechny požadované úd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 obsahuje všechny stránky, číslování je kontinuál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sou přiloženy všechny požadované přílohy – doklad o právní subjektivitě, zhodnocení rovnosti žen a mužů, životopis experta/ky, potvrzení o zařazení do IP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kud je projekt zařazen do IPRM, je přiloženo potvrzení obce o tomto zařazení (vzor je přílohou výzv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čet listů příloh odpovídá počtu uvedenému v Seznamu příl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, seznam příloh a jednotlivé přílohy jsou podepsány statutárním zástupc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ritéria Přijatelnosti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Hodnotí 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 byla v Benefitu7 finálně uložena a tištěná verze je shodná s elektronickou (viz formální hodnoc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adatel je oprávněným žadatelem v dané výzvě a sídlo má na území ČR (validace v A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artner patří mezi oprávněné žadatele s výjimkou Úřadu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Cílové skupiny jsou v souladu s textem výzvy, v případě zařazení jakékoliv jiné cílové skupiny bude projekt vyřazen, území dopadu nesmí být hl.m.Pra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ředpokládaná doba realizace projektu nepřesahuje maximální dobu stanovenou výzvou – max. 2 roky, začátek 1.11.2012 nebo 1.12. 201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ritéria Přijatelnosti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6. Požadovaný objem finanční podpory je v rozmezí daném výzvou, tj. min. 1,5 mil – max. 8 mil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7. Plánované aktivity jsou v souladu s výzvou, jsou 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splněny specifické podmínky dané výzv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8. Vyčíslení nepřímých nákladů odpovídá podílu stanovenému výzvou - </a:t>
            </a:r>
            <a:r>
              <a:rPr b="0" lang="cs-CZ" sz="2000" spc="-1" strike="noStrike">
                <a:solidFill>
                  <a:srgbClr val="c00000"/>
                </a:solidFill>
                <a:latin typeface="Arial"/>
              </a:rPr>
              <a:t>Procento nepřímých nákladů vyplňuje v aplikaci Benefit 7 </a:t>
            </a: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ručně</a:t>
            </a:r>
            <a:r>
              <a:rPr b="0" lang="cs-CZ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sám žadatel!!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9. Rozpočet projektu respektuje stanovené limity pro jednotlivé kapitoly/skupiny výdajů stanovené obecnými pravidly OPLZZ a výzv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10.Požadovaná veřejná podpora a podpora de minimis respektuje stanovené limity (obecně se VP nepředpokládá, výjimku tvoří projekty, jejichž součástí jsou služby péče o děti, podpora podnikatelských aktivit cílové skupiny a poskytování mzdových příspěvků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Nedostatky žádost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Formální hodnoce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Opravitelné jsou 2 chyby ve formálních kritériích. Pokud žadatel udělá v žádosti o finanční podporu 3 a více chyb, které jsou hodnocené ve formálních kritériích, je jeho žádost z dalšího hodnocení vyřaze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Hodnocení přijatelnos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Kritéria přijatelnosti jsou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neopravitelná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. Pokud žadatel udělá v žádosti o finanční podporu chybu </a:t>
            </a:r>
            <a:br>
              <a:rPr sz="2400"/>
            </a:b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 náležitostech, které jsou hodnocené v kritériích přijatelnosti, je jeho žádost z dalšího hodnocení vyřaze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žadavek na opravu / Vyrozumění o vyřaze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 případě dvou chyb ve formálních kritériích je zaslána zprávou z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Monit do Benefit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zpráva obsahující informaci na doplnění chybějících náležitostí – zpravidla během 14 dní. Lhůta na dodání chybějících náležitostí je 10 dní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 případě více chyb ve formálních kritériích a chybě v kritériích přijatelnosti je opět zprávou z Monit do Benefit zasláno Vyrozumění o vyřazení z dalšího procesu hodnocení (do 30 dní od uzavření výzv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Zprávy budou zasílány </a:t>
            </a:r>
            <a:r>
              <a:rPr b="0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pouze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zprávou z Monit do Benef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00000"/>
                </a:solidFill>
                <a:latin typeface="Arial"/>
              </a:rPr>
              <a:t>Kontrolujte pravidelně Benefit zda zde nemáte zprávu!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alší informace o věcném hodnocení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 ukončení formálního hodnocení a hodnocení přijatelnosti budou projekty rozděleny podle uvedeného zaměření do okruhů A – C. Projekty budou hodnoceny a soutěženy 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v rámci jednotlivých okruh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ěcné hodnocení se skládá ze 2 individuálních hodnocení              (v případě velkého bodového rozdílu a ANO/NE – 3 hodnoc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aždý projekt hodnotí alespoň 2 hodnotitelé, individuální hodnocení je podkladem pro jednání výběrové kom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zasedání výběrové komise jsou projednávány projekty, které ve věcném hodnocení získaly minimálně 65 bod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ýběrová komise projednává projekty postupně, podle nejvyššího počtu bodů, až do vyčerpání finanční alok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ýběrová komise může projekt doporučit k financování za podmínek např. krácení rozpočtu, úpravy či doplnění klíčové aktivity, ap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dmínky, za kterých je projekt doporučen k financování výběrovou komisí jsou závazné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alší informace o věcném hodnocení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ýběrová komise má právo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zamítnout projekt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, který prošel věcným hodnocením z následujících důvod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je více projektů zaměřených na stejnou cílovou skupinu nad absorpční schopnosti region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existují vážné a odůvodněné obavy o schopnosti žadatele projekt zdárně realizova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rojektová žádost je nedostatečně zpracována a neposkytuje dostatečnou záruku pro úspěšnou realizaci projekt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ředkladatel projektu prokazatelně neplnil své povinnosti v jiném projektu u administrátora GG (špatné zkušenosti z minula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bývající prostředky podpory neumožní projekt podpořit v dostatečném rozsah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rojekt je z hlediska rozvoje lidských zdrojů na území daného regionu méně potřebn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uveřejněné výzvě jsou uvedeny další limity (např. podíl financí určený pro jednu skupinu subjektů) či další podmínky podpor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kud hodnotitel v rámci hodnocení označil u eliminačních kritérií jejich nesplnění a VK došla ke stejnému závěru (v takovém případě musí projekt vždy nedoporučit k podpoř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kud došlo k nesplnění formálních náležitostí a kritérií přijatelnosti, které nebylo rozpoznáno v odpovídající části hodnotícího procesu (tzv. sporné případy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působ výběru projektů výzvy 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Soutěž mezi jednotlivými projekty bude probíhat v rámci jednotlivých okruhů A až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ýběrová komise bude projednávat projekty v pořadí podle počtu bodů z věcného hodnocení nejprve v okruhu A až do výše alokace na tento okru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ásledně proběhne stejným způsobem výběr projektů v okruhu aktivit B a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 každého okruhu bude schválen stejný počet projektů do společného zásobníků, již bez tematického rozděle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řípadě nevyčerpání alokace některého z okruhů aktivit budou zbylé prostředky použity na podporu projektu ze zásobníku podle nejvyššího počtu bodů z věcného hodnoc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Nejčastější chyby v žádostech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rocento nepřímých nákladů vyplňuje v aplikaci Benefit 7 ručně sám žadatel!!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Rozpoč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dhodnocené výdaje, zejména osobní ná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soulad klíčových aktivit – rozpočtu – harmonogra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Chybně vyplněné údaje (špatné zařazení položek rozpočtu – viz D5 Metodika způsobilých výdajů OP LZZ 1.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Cílová skup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jasné vymezení cílové skupiny, bez kvantifik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dostatečný popis práce s cílovou skupin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jasné dopady projektu na cílovou skupi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Nejčastější chyby v žádostech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Monitorovací indikátory (ukazate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soulad mezi deklarovanými výsledky – hodnotami ukazate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jasný způsob naplňování ukazatelů, chybné vyplně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úplné vyplnění ukazatelů (některé chybí úplně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Klíčové ak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Stručný a obecný pop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líčové aktivity nejsou provázány s položkami v rozpočtu, nejsou uvedeny výstupy z 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Celková úroveň zpracování proje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inanční lim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Zařízení a vybavení: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max. 20% z přímých způsobilých výdaj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Nákup služeb: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max. 60% z přímých způsobilých výdaj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Přímá podpora: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max. 20% z přímých způsobilých výdajů (bez mzdových příspěvk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Mzdové příspěvky v rámci přímé podpory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: v projektu lze nárokovat až 100% mzdových nákladů na pracovní místo, nejvýše však trojnásobek minimální mzdy, tj. 24 000 Kč včetně povinných odvod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Omezení jednotkových cen v kapitole osobní náklady </a:t>
            </a:r>
            <a:br>
              <a:rPr sz="2400"/>
            </a:b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a zařízení a vybavení: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viz příloha č. 6 výzvy „Obvyklé mzdy a platy“ a příloha č.7 výzvy „Obvyklé ceny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143f7e"/>
                </a:solidFill>
                <a:latin typeface="Arial"/>
              </a:rPr>
              <a:t>Monitoring a financování projekt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Monitorovací zprávy </a:t>
            </a:r>
            <a:br>
              <a:rPr sz="32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a Žádosti o platb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inancování projek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d1131c"/>
                </a:solidFill>
                <a:latin typeface="Arial"/>
              </a:rPr>
              <a:t>První zálohová platba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e příjemci poskytnuta do 30ti pracovních dnů od podpisu Rozhodnutí (obvykle ve výši 20% celkových způsobilých výdajů projekt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d1131c"/>
                </a:solidFill>
                <a:latin typeface="Arial"/>
              </a:rPr>
              <a:t>Druhá zálohová platba 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e příjemci poskytnuta do 30ti pracovních dnů od schválení předložené Zprávy o zahájení realizace projektu (obvykle ve výši 20% celkových způsobilých výdajů projekt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d1131c"/>
                </a:solidFill>
                <a:latin typeface="Arial"/>
              </a:rPr>
              <a:t>Průběžné a závěrečná platb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   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alší  části dotace budou příjemci propláceny na základě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schválených Žádostí o platbu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(vyúčtování poskytnutých záloh) předložených v termínech uvedených v příručce pro příjemce a ve výši stanovené Rozhodnutím, přičemž budou vždy sníženy </a:t>
            </a:r>
            <a:br>
              <a:rPr sz="2000"/>
            </a:b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o nevyčerpanou část již poskytnuté dot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Monitorování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  <a:ea typeface="Arial"/>
              </a:rPr>
              <a:t>Hlavní cí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  <a:ea typeface="Arial"/>
              </a:rPr>
              <a:t>Průběžné sledování, sběr dat a informací o projektec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  <a:ea typeface="Arial"/>
              </a:rPr>
              <a:t>Dohled nad finančními prostředky a jejich efektivním využití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  <a:ea typeface="Arial"/>
              </a:rPr>
              <a:t>Průběh realizace projektů, identifikace možných rizi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  <a:ea typeface="Arial"/>
              </a:rPr>
              <a:t>Povinnost příjemců informovat </a:t>
            </a:r>
            <a:r>
              <a:rPr b="0" lang="pl-PL" sz="2400" spc="-1" strike="noStrike">
                <a:solidFill>
                  <a:srgbClr val="143f7e"/>
                </a:solidFill>
                <a:latin typeface="Arial"/>
                <a:ea typeface="Arial"/>
              </a:rPr>
              <a:t>o průběhu celého projektu tzv. </a:t>
            </a:r>
            <a:r>
              <a:rPr b="1" lang="pl-PL" sz="2400" spc="-1" strike="noStrike">
                <a:solidFill>
                  <a:srgbClr val="143f7e"/>
                </a:solidFill>
                <a:latin typeface="Arial"/>
                <a:ea typeface="Arial"/>
              </a:rPr>
              <a:t>Monitorovacími zprávami</a:t>
            </a:r>
            <a:r>
              <a:rPr b="0" lang="pl-PL" sz="2400" spc="-1" strike="noStrike">
                <a:solidFill>
                  <a:srgbClr val="143f7e"/>
                </a:solidFill>
                <a:latin typeface="Arial"/>
                <a:ea typeface="Arial"/>
              </a:rPr>
              <a:t> (nejdůležitější ukazatel je naplňování</a:t>
            </a:r>
            <a:r>
              <a:rPr b="1" lang="pl-PL" sz="2400" spc="-1" strike="noStrike">
                <a:solidFill>
                  <a:srgbClr val="143f7e"/>
                </a:solidFill>
                <a:latin typeface="Arial"/>
                <a:ea typeface="Arial"/>
              </a:rPr>
              <a:t> monitorovacích indikátorů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edkládání Monitorovacích zpráv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Zpráva o zahájení realizace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bez ŽoP (bez </a:t>
            </a:r>
            <a:r>
              <a:rPr b="0" lang="pl-PL" sz="2000" spc="-1" strike="noStrike">
                <a:solidFill>
                  <a:srgbClr val="143f7e"/>
                </a:solidFill>
                <a:latin typeface="Arial"/>
              </a:rPr>
              <a:t>žádosti o platbu)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,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práva se předkládá za první dva měsíce realizace projektu v termínu do 15 dnů třetího měsíce realizace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pracovává se ve formátu .doc (vzor je dán příručkou D10 Desatera), příjemce je k opravě/doplnění nedostatků zpravidla vyzýván pouze jedn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řípadě, že zpráva nebude schválena (příjemce ji neopraví </a:t>
            </a:r>
            <a:br>
              <a:rPr sz="2000"/>
            </a:b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ožadovaném termínu), nebude vyplacena druhá zálohová platba a příjemce pak předkládá až průběžnou MZ s Ž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ontrola ZZRP je provedena zpravidla do 40 pracovních dnů od jejího přijetí a příjemce je o jejím výsledku vyrozumě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edkládání Monitorovacích zpráv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9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Průběžná monitorovací zpráva (MZ)</a:t>
            </a:r>
            <a:r>
              <a:rPr b="0" lang="pl-PL" sz="24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s Ž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MZ bez ŽoP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, pokud nebyly realizovány žádné výd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práva se předkládá do 30ti dnů od skončení monitorovacího období (standardně za každých 6 měsíců realizace projektu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Harmonogram předkládání MZ lze případně upravit </a:t>
            </a:r>
            <a:br>
              <a:rPr sz="2000"/>
            </a:b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Rozhodnu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rvní část MZ se předkládá prostřednictvím aplikace Benefit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ruhá část MZ je předkládána ve formátu .doc (vzor je dán přílohou D10 Desate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řípadě nedostatků jak v MZ tak v ŽoP je příjemce vyzván </a:t>
            </a:r>
            <a:br>
              <a:rPr sz="2000"/>
            </a:b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 opravě/doplnění. Opět zpravidla jedenkrát. V případě nedostatečného doplnění, nebo marného uplynutí lhůty ze strany příjemce jsou případně adekvátně kráceny dotčené výdaje předložené v Ž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edkládání Monitorovacích zpráv (3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9528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9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d1131c"/>
                </a:solidFill>
                <a:latin typeface="Arial"/>
              </a:rPr>
              <a:t>Mimořádná monitorovací zpráva (MMZ) s Ž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143f7e"/>
                </a:solidFill>
                <a:latin typeface="Arial"/>
              </a:rPr>
              <a:t>  </a:t>
            </a:r>
            <a:r>
              <a:rPr b="0" lang="pl-PL" sz="2400" spc="-1" strike="noStrike">
                <a:solidFill>
                  <a:srgbClr val="143f7e"/>
                </a:solidFill>
                <a:latin typeface="Arial"/>
              </a:rPr>
              <a:t>- </a:t>
            </a:r>
            <a:r>
              <a:rPr b="0" lang="pl-PL" sz="2000" spc="-1" strike="noStrike">
                <a:solidFill>
                  <a:srgbClr val="143f7e"/>
                </a:solidFill>
                <a:latin typeface="Arial"/>
              </a:rPr>
              <a:t>Mimořádnou MZ se ŽoP příjemce předkládá zpravidla v případě, kdy ví, že poskytnutá dotace nevystačí na realizaci projektu do dalšího předpokládaného termínu vyplacení další části dot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43f7e"/>
                </a:solidFill>
                <a:latin typeface="Arial"/>
              </a:rPr>
              <a:t>  </a:t>
            </a:r>
            <a:r>
              <a:rPr b="0" lang="pl-PL" sz="2000" spc="-1" strike="noStrike">
                <a:solidFill>
                  <a:srgbClr val="143f7e"/>
                </a:solidFill>
                <a:latin typeface="Arial"/>
              </a:rPr>
              <a:t>- O úmyslu předložit MMZ musí příjemce informovat v dostatečné časovém předstuhu poskytovatele dotace z důvodu nutných úprav harmonogramů a finančních plánů v IS MONIT7+ a Benefit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29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Závěrečná monitorovací zpráva s Ž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-  Závěrečná MZ se předkládá nejpozději do 2 měsíců od ukončení realizace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   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Kontrola MZ, MMZ a závěrečné MZ je zpravidla do </a:t>
            </a: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40 pracovních dnů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a příjemce je o jejím výsledku vyrozumě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3f7e"/>
                </a:solidFill>
                <a:latin typeface="Arial"/>
              </a:rPr>
              <a:t>Děkuji za pozorn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Další informa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www.esfcr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d1131c"/>
                </a:solidFill>
                <a:uFillTx/>
                <a:latin typeface="Arial"/>
              </a:rPr>
              <a:t>http://forum.esfcr.c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řížové financ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Maximální objem prostředků v rámci výzvy: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9% alokace výzvy, tj. 38 250 000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Garantovaný minimální podíl: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max. 3% z přímých způsobilých výdajů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Maximální podíl :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max. 40% přímých způsobilých výdajů s tím, že v souhrnu nesmí prostředky křížového financování překročit 9% alokace výz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Tři podporované okruhy aktivit (1)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A) Prosazování rovných příležitostí žen a mužů a slaďování pracovního a rodinného života v zaměstnavatelské sféř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Alokace na okruh aktivit </a:t>
            </a:r>
            <a:r>
              <a:rPr b="1" lang="cs-CZ" sz="2000" spc="-1" strike="noStrike" u="sng">
                <a:solidFill>
                  <a:srgbClr val="c00000"/>
                </a:solidFill>
                <a:uFillTx/>
                <a:latin typeface="Arial"/>
              </a:rPr>
              <a:t>A</a:t>
            </a: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 činí 170 000 000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B) Tvorba a realizace komplexních programů na podporu zahájení a rozvoj samostatně výdělečné čin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00000"/>
                </a:solidFill>
                <a:latin typeface="Arial"/>
              </a:rPr>
              <a:t>Alokace na okruh aktivit </a:t>
            </a:r>
            <a:r>
              <a:rPr b="1" lang="pl-PL" sz="2000" spc="-1" strike="noStrike" u="sng">
                <a:solidFill>
                  <a:srgbClr val="c00000"/>
                </a:solidFill>
                <a:uFillTx/>
                <a:latin typeface="Arial"/>
              </a:rPr>
              <a:t>B</a:t>
            </a:r>
            <a:r>
              <a:rPr b="1" lang="pl-PL" sz="2000" spc="-1" strike="noStrike">
                <a:solidFill>
                  <a:srgbClr val="c00000"/>
                </a:solidFill>
                <a:latin typeface="Arial"/>
              </a:rPr>
              <a:t> činí 170 000 000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C) Místní partnerství a tematické sít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Alokace na okruh aktivit </a:t>
            </a:r>
            <a:r>
              <a:rPr b="1" lang="cs-CZ" sz="2000" spc="-1" strike="noStrike" u="sng">
                <a:solidFill>
                  <a:srgbClr val="c00000"/>
                </a:solidFill>
                <a:uFillTx/>
                <a:latin typeface="Arial"/>
              </a:rPr>
              <a:t>C</a:t>
            </a: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 činí 85 000 000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Tři podporované okruhy aktivit (2)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Aktivity jednotlivých podporovaných okruhů lze v projektu kombinovat, ale projekt je možné podat pouze </a:t>
            </a:r>
            <a:r>
              <a:rPr b="1" lang="cs-CZ" sz="2800" spc="-1" strike="noStrike">
                <a:solidFill>
                  <a:srgbClr val="c00000"/>
                </a:solidFill>
                <a:latin typeface="Arial"/>
              </a:rPr>
              <a:t>v rámci jednoho z okruhů aktivit (A,B,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Okruh aktivit, v rámci kterého bude projekt podán, by měl odpovídat převažujícímu typu činn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lužby péče o děti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Služby péče o děti </a:t>
            </a: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jsou podporovány v rámci všech tří okruhů aktivit </a:t>
            </a: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pouze jako součást komplexního řešení - kombinace více aktivit ve prospěch cílové skupiny </a:t>
            </a:r>
            <a:r>
              <a:rPr b="0" lang="cs-CZ" sz="2800" spc="-1" strike="noStrike">
                <a:solidFill>
                  <a:srgbClr val="c00000"/>
                </a:solidFill>
                <a:latin typeface="Arial"/>
              </a:rPr>
              <a:t>(doplňková aktivita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Služby lze provozovat na základě </a:t>
            </a: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platné </a:t>
            </a: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legislativy</a:t>
            </a: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 v době realizace projektu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(např. v případě schválení návrhu zákona o službách péče o děti bude pak možno tyto služby provozovat podlé této právní úprav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klady aktivit pro jednotlivé okruhy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A) Prosazování rovných příležitostí a slaďování rodinného a pracovního života v zaměstnavatelské sféř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4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1131c"/>
                </a:solidFill>
                <a:latin typeface="Arial"/>
              </a:rPr>
              <a:t>Rovné příležitosti v organizaci žadatele a jeho partne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4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1131c"/>
                </a:solidFill>
                <a:latin typeface="Arial"/>
              </a:rPr>
              <a:t>Motivace zaměstnavatelů k uskutečňování politiky přátelské k rodině a rovným příležito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60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genderové a rodinné audit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60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dnikové plány rovnosti žen a mužů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60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zavádění principů diversity management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60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rogramy pro rodiče na rodičovské dovolené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60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osvětové, vzdělávací, poradenské a motivační aktivit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60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advokační služby pro pomoc obětem diskriminace at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Labajová Zuzana, Mgr. (MPSV)</cp:lastModifiedBy>
  <dcterms:modified xsi:type="dcterms:W3CDTF">2012-04-02T12:45:10Z</dcterms:modified>
  <cp:revision>432</cp:revision>
  <dc:subject/>
  <dc:title>Snímek 1</dc:title>
</cp:coreProperties>
</file>